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0C0-0372-43E8-B8F2-37458BB4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991-856F-4946-9A9D-56F95377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B94-33BE-4C30-B64A-E7991719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AA7A-DFA8-4A8A-BEF5-DF18E149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2F9-5C4D-4324-8126-C075020D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D0B-ECE5-4844-AF28-286BD1B1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2B3A-402C-469E-912A-2EFBD4DA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097-7147-412A-B121-67A5739C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457-B2EA-4EE4-8122-CB95771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48CE-3830-4360-B7A9-E3A6AAC1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468-9172-41BA-9E6E-51089F4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443-1DA0-4810-A9EC-F4FA869B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EED-B634-44CF-BC29-458F659C4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c model organism databas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019920"/>
            <a:ext cx="2806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at the NESCent GMOD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January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id Emm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ert@morgan.harvard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1828800"/>
            <a:ext cx="1676160" cy="457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>
                <a:alpha val="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09680"/>
            <a:ext cx="228600" cy="228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480" y="213372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tic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10120" y="2133720"/>
            <a:ext cx="571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tic/phenotypic interactions in genotypic/environmental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638440"/>
            <a:ext cx="228600" cy="228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840" y="25621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quence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09400" y="2587680"/>
            <a:ext cx="54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ological sequences and objects which can be localized o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0672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840" y="29908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p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8680" y="3013200"/>
            <a:ext cx="495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non-sequence loc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3495600"/>
            <a:ext cx="228600" cy="2286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341964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ression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7240" y="3436920"/>
            <a:ext cx="34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cript and protein expression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924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920" y="3848040"/>
            <a:ext cx="23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analysis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9040" y="3862440"/>
            <a:ext cx="42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junct to sequence module for in-silic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2760"/>
            <a:ext cx="228600" cy="2286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560" y="42768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V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5080" y="4287960"/>
            <a:ext cx="33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rolled vocabularies and ont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781520"/>
            <a:ext cx="228600" cy="2286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840" y="4705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s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6880" y="47116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xonomy / specie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10280"/>
            <a:ext cx="228600" cy="2286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0" y="513396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120" y="5137200"/>
            <a:ext cx="37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ation / Biblio / Referenc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5638680"/>
            <a:ext cx="22860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5562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3000" y="5562720"/>
            <a:ext cx="40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 information / database cross-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96080" y="380880"/>
            <a:ext cx="914400" cy="9144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bxr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5486400"/>
            <a:ext cx="914400" cy="9144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74" idx="7"/>
            <a:endCxn id="73" idx="4"/>
          </p:cNvCxnSpPr>
          <p:nvPr/>
        </p:nvCxnSpPr>
        <p:spPr>
          <a:xfrm flipH="1" flipV="1">
            <a:off x="8152560" y="1294920"/>
            <a:ext cx="96120" cy="4325040"/>
          </a:xfrm>
          <a:prstGeom prst="straightConnector1">
            <a:avLst/>
          </a:prstGeom>
          <a:ln w="3168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19320" y="3808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76" idx="7"/>
            <a:endCxn id="73" idx="1"/>
          </p:cNvCxnSpPr>
          <p:nvPr/>
        </p:nvCxnSpPr>
        <p:spPr>
          <a:xfrm>
            <a:off x="1999800" y="514080"/>
            <a:ext cx="5829840" cy="1080"/>
          </a:xfrm>
          <a:prstGeom prst="straightConnector1">
            <a:avLst/>
          </a:prstGeom>
          <a:ln w="3168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6400800" y="205740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7"/>
            <a:endCxn id="73" idx="3"/>
          </p:cNvCxnSpPr>
          <p:nvPr/>
        </p:nvCxnSpPr>
        <p:spPr>
          <a:xfrm flipV="1">
            <a:off x="7181640" y="1161720"/>
            <a:ext cx="648360" cy="102888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1143000" y="25146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5"/>
            <a:endCxn id="74" idx="2"/>
          </p:cNvCxnSpPr>
          <p:nvPr/>
        </p:nvCxnSpPr>
        <p:spPr>
          <a:xfrm>
            <a:off x="1924200" y="3295440"/>
            <a:ext cx="5544000" cy="26485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8" idx="6"/>
            <a:endCxn id="74" idx="0"/>
          </p:cNvCxnSpPr>
          <p:nvPr/>
        </p:nvCxnSpPr>
        <p:spPr>
          <a:xfrm>
            <a:off x="7314840" y="2514240"/>
            <a:ext cx="610200" cy="2972520"/>
          </a:xfrm>
          <a:prstGeom prst="straightConnector1">
            <a:avLst/>
          </a:prstGeom>
          <a:ln w="3168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78" idx="1"/>
          </p:cNvCxnSpPr>
          <p:nvPr/>
        </p:nvCxnSpPr>
        <p:spPr>
          <a:xfrm flipV="1">
            <a:off x="1923840" y="2190240"/>
            <a:ext cx="4610520" cy="45792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80" idx="0"/>
            <a:endCxn id="73" idx="2"/>
          </p:cNvCxnSpPr>
          <p:nvPr/>
        </p:nvCxnSpPr>
        <p:spPr>
          <a:xfrm flipV="1">
            <a:off x="1599840" y="837360"/>
            <a:ext cx="6096600" cy="16772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0" idx="1"/>
            <a:endCxn id="76" idx="3"/>
          </p:cNvCxnSpPr>
          <p:nvPr/>
        </p:nvCxnSpPr>
        <p:spPr>
          <a:xfrm flipV="1">
            <a:off x="1276200" y="1161360"/>
            <a:ext cx="76680" cy="1486440"/>
          </a:xfrm>
          <a:prstGeom prst="straightConnector1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533520" y="56386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5"/>
          </p:cNvCxnSpPr>
          <p:nvPr/>
        </p:nvCxnSpPr>
        <p:spPr>
          <a:xfrm flipV="1">
            <a:off x="1314360" y="6343560"/>
            <a:ext cx="6492240" cy="766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6" idx="7"/>
            <a:endCxn id="80" idx="3"/>
          </p:cNvCxnSpPr>
          <p:nvPr/>
        </p:nvCxnSpPr>
        <p:spPr>
          <a:xfrm flipH="1" flipV="1">
            <a:off x="1275840" y="3295080"/>
            <a:ext cx="38880" cy="247716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791320" y="36576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5"/>
            <a:endCxn id="74" idx="1"/>
          </p:cNvCxnSpPr>
          <p:nvPr/>
        </p:nvCxnSpPr>
        <p:spPr>
          <a:xfrm>
            <a:off x="6572160" y="4438800"/>
            <a:ext cx="1029600" cy="11815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9" idx="7"/>
            <a:endCxn id="78" idx="3"/>
          </p:cNvCxnSpPr>
          <p:nvPr/>
        </p:nvCxnSpPr>
        <p:spPr>
          <a:xfrm flipH="1" flipV="1">
            <a:off x="6533640" y="2837880"/>
            <a:ext cx="38880" cy="9529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2"/>
            <a:endCxn id="80" idx="6"/>
          </p:cNvCxnSpPr>
          <p:nvPr/>
        </p:nvCxnSpPr>
        <p:spPr>
          <a:xfrm flipH="1" flipV="1">
            <a:off x="2057040" y="2971080"/>
            <a:ext cx="3734640" cy="1143720"/>
          </a:xfrm>
          <a:prstGeom prst="straightConnector1">
            <a:avLst/>
          </a:prstGeom>
          <a:ln w="3168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514600" y="4572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3" idx="5"/>
            <a:endCxn id="74" idx="3"/>
          </p:cNvCxnSpPr>
          <p:nvPr/>
        </p:nvCxnSpPr>
        <p:spPr>
          <a:xfrm>
            <a:off x="3295440" y="5353200"/>
            <a:ext cx="4305960" cy="91512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3" idx="1"/>
            <a:endCxn id="80" idx="4"/>
          </p:cNvCxnSpPr>
          <p:nvPr/>
        </p:nvCxnSpPr>
        <p:spPr>
          <a:xfrm flipH="1" flipV="1">
            <a:off x="1599840" y="3428640"/>
            <a:ext cx="1048320" cy="12765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0"/>
            <a:endCxn id="78" idx="2"/>
          </p:cNvCxnSpPr>
          <p:nvPr/>
        </p:nvCxnSpPr>
        <p:spPr>
          <a:xfrm flipV="1">
            <a:off x="2971440" y="2514240"/>
            <a:ext cx="3429720" cy="2057760"/>
          </a:xfrm>
          <a:prstGeom prst="straightConnector1">
            <a:avLst/>
          </a:prstGeom>
          <a:ln w="3168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743200" y="8380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7" idx="6"/>
            <a:endCxn id="78" idx="0"/>
          </p:cNvCxnSpPr>
          <p:nvPr/>
        </p:nvCxnSpPr>
        <p:spPr>
          <a:xfrm>
            <a:off x="3657600" y="1294920"/>
            <a:ext cx="3201120" cy="7628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3"/>
            <a:endCxn id="80" idx="0"/>
          </p:cNvCxnSpPr>
          <p:nvPr/>
        </p:nvCxnSpPr>
        <p:spPr>
          <a:xfrm flipH="1">
            <a:off x="1599840" y="1618920"/>
            <a:ext cx="1276560" cy="896040"/>
          </a:xfrm>
          <a:prstGeom prst="straightConnector1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 modul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-4680"/>
            <a:ext cx="8077320" cy="6862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080" y="5181480"/>
            <a:ext cx="1143000" cy="1617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4419720"/>
            <a:ext cx="1295280" cy="838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60480"/>
            <a:ext cx="1143000" cy="777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121896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2286000"/>
            <a:ext cx="1371600" cy="1295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1219320"/>
            <a:ext cx="1219320" cy="6094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267080"/>
            <a:ext cx="121932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876920"/>
            <a:ext cx="1143000" cy="5331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3581280"/>
            <a:ext cx="914400" cy="776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2133720"/>
            <a:ext cx="106668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2286000"/>
            <a:ext cx="1905120" cy="1219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04920"/>
            <a:ext cx="129564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0"/>
            <a:ext cx="114300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7680" y="45720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relation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040" y="2666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03560" y="137160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6640" y="4419720"/>
            <a:ext cx="20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09360" y="5791320"/>
            <a:ext cx="11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ynony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3120" y="2286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_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8760" y="373392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5520" y="26668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l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4880" y="4952880"/>
            <a:ext cx="20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eatureprop_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4080" y="5791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5880" y="46483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rgan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28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v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2286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bxr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19600" y="2286000"/>
            <a:ext cx="188748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property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s many attributes as possible into property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property types with controlled voc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roperties to 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8954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p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32" idx="1"/>
            <a:endCxn id="131" idx="3"/>
          </p:cNvCxnSpPr>
          <p:nvPr/>
        </p:nvCxnSpPr>
        <p:spPr>
          <a:xfrm flipH="1">
            <a:off x="6171480" y="335232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172200" y="3048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ord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06668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perty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2" idx="0"/>
            <a:endCxn id="135" idx="2"/>
          </p:cNvCxnSpPr>
          <p:nvPr/>
        </p:nvCxnSpPr>
        <p:spPr>
          <a:xfrm flipV="1">
            <a:off x="7924320" y="1980720"/>
            <a:ext cx="10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924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480060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2" idx="2"/>
            <a:endCxn id="138" idx="0"/>
          </p:cNvCxnSpPr>
          <p:nvPr/>
        </p:nvCxnSpPr>
        <p:spPr>
          <a:xfrm>
            <a:off x="7924320" y="3809880"/>
            <a:ext cx="10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6629400" y="4038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y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relationship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 controlled vocabularies  for  relationship types makes customization and extension possible without altering the sch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07200" y="53341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5480" y="3276720"/>
            <a:ext cx="1214640" cy="1214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_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6280" y="1676520"/>
            <a:ext cx="13716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elationshp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4" idx="1"/>
            <a:endCxn id="143" idx="0"/>
          </p:cNvCxnSpPr>
          <p:nvPr/>
        </p:nvCxnSpPr>
        <p:spPr>
          <a:xfrm>
            <a:off x="6405480" y="3884760"/>
            <a:ext cx="5882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4" idx="3"/>
            <a:endCxn id="143" idx="0"/>
          </p:cNvCxnSpPr>
          <p:nvPr/>
        </p:nvCxnSpPr>
        <p:spPr>
          <a:xfrm flipH="1">
            <a:off x="6992640" y="3884760"/>
            <a:ext cx="627840" cy="14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54100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4" idx="0"/>
            <a:endCxn id="145" idx="2"/>
          </p:cNvCxnSpPr>
          <p:nvPr/>
        </p:nvCxnSpPr>
        <p:spPr>
          <a:xfrm flipH="1" flipV="1">
            <a:off x="7011720" y="2590200"/>
            <a:ext cx="21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7010280" y="26668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e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ll Gelbart, FlyBase 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schema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 Mungall (HHMI/BDGP/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in Wiel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nglei Zhou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brey de Gra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ll Gelbart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n Letovsky (Fly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do I/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doXML &amp; chado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glei Zhou and Stan Let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operl chadoxml.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ili Zhang and Chris Mung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ME -&gt; chadoXML co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 Smut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FF3 -&gt; chado loa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tt C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ncoln Stein (P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C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Yandell (BDG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 Angiuoli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nnifer Wortman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wen White (TIG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d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5297400" cy="3467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9050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0T04:49:56Z</dcterms:created>
  <dc:creator>William M. Gelbart</dc:creator>
  <dc:description/>
  <dc:language>en-US</dc:language>
  <cp:lastModifiedBy>William M. Gelbart</cp:lastModifiedBy>
  <dcterms:modified xsi:type="dcterms:W3CDTF">2006-01-20T05:05:47Z</dcterms:modified>
  <cp:revision>4</cp:revision>
  <dc:subject/>
  <dc:title>Chado modules</dc:title>
</cp:coreProperties>
</file>